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12682538" cy="71310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move the slide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F4E8AE-1DBC-4141-A643-C897D4709A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7BD59-F32F-4C64-BEBA-BF3E2FF4B9E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D88ED64-AF09-4572-94C2-84A98B11A15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DC632E-27C2-43D3-A2E7-3240DD75F86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5B66534-F4CA-460A-837F-3FF47EBFA508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Odluka o primeni RTG donosi se na anamneze i objektivnog nala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200" spc="-1" strike="noStrike">
                <a:solidFill>
                  <a:srgbClr val="f9a12a"/>
                </a:solidFill>
                <a:latin typeface="Trebuchet MS"/>
              </a:rPr>
              <a:t>Metode, tehnike i sredstva da spreči pojavu bolesti ili da prekine neku kariku u lanc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F37D515-488B-44B4-A92C-6A4246B8A8B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7A3B0D-7BAF-48BB-97E0-DE22CE6D67CB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 OTKRIVANJE KARIJESNIH LEZIJA NA APROKSIMALNIM POVRŠINAMA ZU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CA5C54-78D9-4F2B-9204-7E7378B4E67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000000"/>
                </a:solidFill>
                <a:latin typeface="Arial"/>
              </a:rPr>
              <a:t>ZA OTKRIVANJE KARIJESNIH LEZIJA NA APROKSIMALNIM POVRŠINAMA ZUB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695918-CE2A-4C10-A6B9-242B36A7C00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ffffff"/>
                </a:solidFill>
                <a:latin typeface="Trebuchet MS"/>
              </a:rPr>
              <a:t>PSIHOLOŠKI TIPOVI DECE PO HAJNR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12AF439-FA48-435F-B56A-46C23353E379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800" spc="-1" strike="noStrike">
                <a:solidFill>
                  <a:srgbClr val="ffffff"/>
                </a:solidFill>
                <a:latin typeface="Trebuchet MS"/>
              </a:rPr>
              <a:t>PSIHOLOŠKI TIPOVI DECE PO HAJNRIHU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F8213-2C7E-455A-87B0-0C824C87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134B-0F79-4921-BAC6-CED283D3C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E5AA-0EAD-48C6-BAB4-3176741D8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6948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267760" y="189864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7120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6948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267760" y="4262760"/>
            <a:ext cx="3521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A0E6C-C4A3-4077-B3F9-87B87F9F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C165-D604-482A-B956-398696D5B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7E65-430C-4209-B584-DFE3404A7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8DBD9-0A4F-4223-8E30-C3732EB4F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0134-70F5-4D58-B2CB-11CD16B67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71200" y="379440"/>
            <a:ext cx="10937880" cy="63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37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25BE-591F-48D7-9A9B-92DF5D4FA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9764-29B0-46D0-A3DD-F6BE513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475680" y="426276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575E-F9FC-4539-881D-D31BCD86E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7120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475680" y="1898640"/>
            <a:ext cx="5337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71200" y="4262760"/>
            <a:ext cx="109378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37"/>
              </a:spcBef>
              <a:buNone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81D2B-3D12-44D1-86A1-529699082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0" y="379440"/>
            <a:ext cx="1093788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Calibri Light"/>
              </a:rPr>
              <a:t>Click to edit the title text format</a:t>
            </a:r>
            <a:endParaRPr b="0" lang="en-US" sz="45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71200" y="1898640"/>
            <a:ext cx="10937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2" marL="118728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3" marL="166356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4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5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lvl="6" marL="2138400" indent="-236520">
              <a:lnSpc>
                <a:spcPct val="90000"/>
              </a:lnSpc>
              <a:spcBef>
                <a:spcPts val="1037"/>
              </a:spcBef>
              <a:buClr>
                <a:srgbClr val="ffffff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7156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200120" y="6610320"/>
            <a:ext cx="42800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956800" y="6610320"/>
            <a:ext cx="2852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8D180C-E12A-409D-9C51-95645C497DE7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39440" y="3133800"/>
            <a:ext cx="9713880" cy="1906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UPOZNAVANJE SA PREDMETOM</a:t>
            </a:r>
            <a:br>
              <a:rPr sz="4300"/>
            </a:b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I SPECIFIČNOSTIMA</a:t>
            </a:r>
            <a:br>
              <a:rPr sz="4300"/>
            </a:b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RADA SA DECOM</a:t>
            </a:r>
            <a:endParaRPr b="0" lang="en-US" sz="43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339640" y="5479920"/>
            <a:ext cx="8001000" cy="182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37"/>
              </a:spcBef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DOC. DR RA</a:t>
            </a:r>
            <a:r>
              <a:rPr b="1" lang="sr-Latn-RS" sz="3100" spc="-1" strike="noStrike">
                <a:solidFill>
                  <a:srgbClr val="f9a12a"/>
                </a:solidFill>
                <a:latin typeface="Trebuchet MS"/>
              </a:rPr>
              <a:t>Š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A </a:t>
            </a:r>
            <a:r>
              <a:rPr b="1" lang="en-US" sz="3100" spc="-1" strike="noStrike">
                <a:solidFill>
                  <a:srgbClr val="f9a12a"/>
                </a:solidFill>
                <a:latin typeface="Trebuchet MS"/>
              </a:rPr>
              <a:t>J. </a:t>
            </a:r>
            <a:r>
              <a:rPr b="1" lang="sr-Latn-CS" sz="3100" spc="-1" strike="noStrike">
                <a:solidFill>
                  <a:srgbClr val="f9a12a"/>
                </a:solidFill>
                <a:latin typeface="Trebuchet MS"/>
              </a:rPr>
              <a:t>MLADENOVIĆ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10683720" y="2957400"/>
            <a:ext cx="609840" cy="23241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1292400" y="317520"/>
            <a:ext cx="10669320" cy="15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FAKULTET MEDICINSKIH NAUKA</a:t>
            </a:r>
            <a:br>
              <a:rPr sz="3100"/>
            </a:br>
            <a:r>
              <a:rPr b="1" lang="sr-Latn-RS" sz="3100" spc="-1" strike="noStrike">
                <a:solidFill>
                  <a:srgbClr val="000000"/>
                </a:solidFill>
                <a:latin typeface="Trebuchet MS"/>
              </a:rPr>
              <a:t>UNIVERZITET U KRAGUJEVCU</a:t>
            </a:r>
            <a:endParaRPr b="0" lang="en-US" sz="31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00120" y="1504800"/>
            <a:ext cx="9717120" cy="15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</a:t>
            </a:r>
            <a:r>
              <a:rPr b="1" lang="en-US" sz="3600" spc="-1" strike="noStrike">
                <a:solidFill>
                  <a:srgbClr val="f9a12a"/>
                </a:solidFill>
                <a:latin typeface="Trebuchet MS"/>
              </a:rPr>
              <a:t> STOMATOLOGIJ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2340000" y="6165720"/>
            <a:ext cx="800100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t">
            <a:noAutofit/>
          </a:bodyPr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2600" spc="-1" strike="noStrike">
                <a:solidFill>
                  <a:srgbClr val="000000"/>
                </a:solidFill>
                <a:latin typeface="Trebuchet MS"/>
              </a:rPr>
              <a:t>MMXXII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Rectangle: Rounded Corners 8"/>
          <p:cNvSpPr/>
          <p:nvPr/>
        </p:nvSpPr>
        <p:spPr>
          <a:xfrm>
            <a:off x="10683720" y="138240"/>
            <a:ext cx="1219320" cy="990360"/>
          </a:xfrm>
          <a:prstGeom prst="roundRect">
            <a:avLst>
              <a:gd name="adj" fmla="val 16667"/>
            </a:avLst>
          </a:prstGeom>
          <a:solidFill>
            <a:srgbClr val="f45e4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5400" spc="-1" strike="noStrike">
                <a:solidFill>
                  <a:srgbClr val="000000"/>
                </a:solidFill>
                <a:latin typeface="Trebuchet MS"/>
              </a:rPr>
              <a:t>01</a:t>
            </a:r>
            <a:endParaRPr b="0" lang="en-US" sz="5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comb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1196640" y="205848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Treba da bude jedno prijatno iskustvo za dete, a da stomatolog upozna dete i njegove stomatološke probleme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Ukoliko dolazi dete sa bolom, mora mu se ukazati pomoć.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" name="Rectangle 28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RVA POSETA STOMATOLOGU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1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196640" y="202104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Stas (visina odgovara uzrastu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okretljivost (držanje)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Sposobnost govor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87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9a12a"/>
                </a:solidFill>
                <a:latin typeface="Trebuchet MS"/>
              </a:rPr>
              <a:t>Poremećaj ritma (mucanje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87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9a12a"/>
                </a:solidFill>
                <a:latin typeface="Trebuchet MS"/>
              </a:rPr>
              <a:t>Poremećena artikulacij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80000"/>
              </a:lnSpc>
              <a:spcBef>
                <a:spcPts val="1874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000" spc="-1" strike="noStrike">
                <a:solidFill>
                  <a:srgbClr val="f9a12a"/>
                </a:solidFill>
                <a:latin typeface="Trebuchet MS"/>
              </a:rPr>
              <a:t>Poremećaj sluha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Uzimanje anamne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8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Rectangle 6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ROCENA OPŠTEG STAN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4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8f8f8"/>
                </a:solidFill>
                <a:latin typeface="Trebuchet MS"/>
              </a:rPr>
              <a:t>INTRAORALNI PREGLED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234800" y="16621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adah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Usne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Bukalna sluzni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Gingiv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Jezik i podjezični prostor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Nepc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Pljuvačka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800" spc="-1" strike="noStrike">
                <a:solidFill>
                  <a:srgbClr val="f9a12a"/>
                </a:solidFill>
                <a:latin typeface="Trebuchet MS"/>
              </a:rPr>
              <a:t>Zubi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34000" indent="-234000">
              <a:lnSpc>
                <a:spcPct val="90000"/>
              </a:lnSpc>
              <a:spcBef>
                <a:spcPts val="1749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1196640" y="2058480"/>
            <a:ext cx="10288440" cy="470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Sistematsk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Prv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Kontroln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9a12a"/>
                </a:solidFill>
                <a:latin typeface="Trebuchet MS"/>
              </a:rPr>
              <a:t>Ciljani pregled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STOMATOLOŠKI PREGLED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1234800" y="2119320"/>
            <a:ext cx="102884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90000"/>
              </a:lnSpc>
              <a:spcBef>
                <a:spcPts val="1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Stomatološka zaštita u zajendici / </a:t>
            </a: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community dentistry,</a:t>
            </a:r>
            <a:br>
              <a:rPr sz="2400"/>
            </a:br>
            <a:r>
              <a:rPr b="1" lang="sr-Latn-CS" sz="2400" spc="-1" strike="noStrike">
                <a:solidFill>
                  <a:srgbClr val="f9a12a"/>
                </a:solidFill>
                <a:latin typeface="Trebuchet MS"/>
              </a:rPr>
              <a:t>Oralno zravlje u zajednici / </a:t>
            </a:r>
            <a:r>
              <a:rPr b="1" lang="sr-Latn-CS" sz="2400" spc="-1" strike="noStrike">
                <a:solidFill>
                  <a:srgbClr val="ffffff"/>
                </a:solidFill>
                <a:latin typeface="Trebuchet MS"/>
              </a:rPr>
              <a:t>community (public) oral health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reventivna stomatologija je nauka i umeće prevencije bolesti usta i zuba, obezbeđivanja dugotrajnog oralnog zdravlja i unapređenja kvaliteta života i unapređenja kvaliteta života organizovanim naporima.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90000"/>
              </a:lnSpc>
              <a:spcBef>
                <a:spcPts val="225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PREDMET I DEFINICIJA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5045040" y="2109960"/>
            <a:ext cx="601992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200" spc="-1" strike="noStrike">
                <a:solidFill>
                  <a:srgbClr val="f9a12a"/>
                </a:solidFill>
                <a:latin typeface="Trebuchet MS"/>
              </a:rPr>
              <a:t>Osnovni cilj je da na osnovu savremenih naučnih podataka o etiologiji oralnih oboljenja preporuči i obezbedi da se mogu primeniti najefikasnije, proverene mere i sredstva za njihovo sprečavanje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495360" indent="-495360">
              <a:lnSpc>
                <a:spcPct val="80000"/>
              </a:lnSpc>
              <a:spcBef>
                <a:spcPts val="2001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CILJ 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8f8f8"/>
                </a:solidFill>
                <a:latin typeface="Trebuchet MS"/>
              </a:rPr>
              <a:t>PRIMARNA PREVENCIJ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1196640" y="208872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Sprečavanje pojave oboljenja usta i zuba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3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8f8f8"/>
                </a:solidFill>
                <a:latin typeface="Trebuchet MS"/>
              </a:rPr>
              <a:t>SEKUNDARNA PREVENCIJ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196640" y="2088720"/>
            <a:ext cx="10288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Rana dijagnostika oralnih oboljenja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Primena preventivnih i profilaktičkih mera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300" spc="-1" strike="noStrike">
                <a:solidFill>
                  <a:srgbClr val="f9a12a"/>
                </a:solidFill>
                <a:latin typeface="Trebuchet MS"/>
              </a:rPr>
              <a:t>Rutinske terapijske mer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0800" y="557280"/>
            <a:ext cx="10287000" cy="1187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200" spc="-1" strike="noStrike">
                <a:solidFill>
                  <a:srgbClr val="f8f8f8"/>
                </a:solidFill>
                <a:latin typeface="Trebuchet MS"/>
              </a:rPr>
              <a:t>TERCIJARNA PREVENCIJA</a:t>
            </a:r>
            <a:endParaRPr b="0" lang="en-US" sz="4200" spc="-1" strike="noStrike">
              <a:solidFill>
                <a:srgbClr val="ffffff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196640" y="2089080"/>
            <a:ext cx="10288440" cy="2316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en-US" sz="3300" spc="-1" strike="noStrike">
                <a:solidFill>
                  <a:srgbClr val="f9a12a"/>
                </a:solidFill>
                <a:latin typeface="Trebuchet MS"/>
              </a:rPr>
              <a:t>N</a:t>
            </a: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adoknad</a:t>
            </a:r>
            <a:r>
              <a:rPr b="1" lang="en-US" sz="3300" spc="-1" strike="noStrike">
                <a:solidFill>
                  <a:srgbClr val="f9a12a"/>
                </a:solidFill>
                <a:latin typeface="Trebuchet MS"/>
              </a:rPr>
              <a:t>a</a:t>
            </a: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 oštećenih ilii zamen</a:t>
            </a:r>
            <a:r>
              <a:rPr b="1" lang="en-US" sz="3300" spc="-1" strike="noStrike">
                <a:solidFill>
                  <a:srgbClr val="f9a12a"/>
                </a:solidFill>
                <a:latin typeface="Trebuchet MS"/>
              </a:rPr>
              <a:t>a</a:t>
            </a: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 izvađenih zuba i rehabilitacij</a:t>
            </a:r>
            <a:r>
              <a:rPr b="1" lang="en-US" sz="3300" spc="-1" strike="noStrike">
                <a:solidFill>
                  <a:srgbClr val="f9a12a"/>
                </a:solidFill>
                <a:latin typeface="Trebuchet MS"/>
              </a:rPr>
              <a:t>a</a:t>
            </a: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 funkcij</a:t>
            </a:r>
            <a:r>
              <a:rPr b="1" lang="en-US" sz="3300" spc="-1" strike="noStrike">
                <a:solidFill>
                  <a:srgbClr val="f9a12a"/>
                </a:solidFill>
                <a:latin typeface="Trebuchet MS"/>
              </a:rPr>
              <a:t>e</a:t>
            </a:r>
            <a:r>
              <a:rPr b="1" lang="sr-Latn-CS" sz="3300" spc="-1" strike="noStrike">
                <a:solidFill>
                  <a:srgbClr val="f9a12a"/>
                </a:solidFill>
                <a:latin typeface="Trebuchet MS"/>
              </a:rPr>
              <a:t> organa za žvakanje</a:t>
            </a: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  <a:p>
            <a:pPr marL="236520" indent="-236520">
              <a:lnSpc>
                <a:spcPct val="90000"/>
              </a:lnSpc>
              <a:spcBef>
                <a:spcPts val="1037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3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9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2803320" y="1967040"/>
            <a:ext cx="1028844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novorođenč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odojč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malog det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predškolskog det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3600" spc="-1" strike="noStrike">
                <a:solidFill>
                  <a:srgbClr val="f9a12a"/>
                </a:solidFill>
                <a:latin typeface="Trebuchet MS"/>
              </a:rPr>
              <a:t>Period školskog deteta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  <a:p>
            <a:pPr lvl="1" marL="712800" indent="-236520">
              <a:lnSpc>
                <a:spcPct val="90000"/>
              </a:lnSpc>
              <a:spcBef>
                <a:spcPts val="1500"/>
              </a:spcBef>
              <a:buClr>
                <a:srgbClr val="f8f8f8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2400" spc="-1" strike="noStrike">
                <a:solidFill>
                  <a:srgbClr val="f8f8f8"/>
                </a:solidFill>
                <a:latin typeface="Trebuchet MS"/>
              </a:rPr>
              <a:t>Mlađa školska deca i adolescenti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Rectangle 110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RS" sz="4300" spc="-1" strike="noStrike">
                <a:solidFill>
                  <a:srgbClr val="f8f8f8"/>
                </a:solidFill>
                <a:latin typeface="Trebuchet MS"/>
              </a:rPr>
              <a:t>PODELA DECE PREMA UZRASTU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816440" y="2576520"/>
            <a:ext cx="582768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Normaln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Uzdržan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99cc00"/>
                </a:solidFill>
                <a:latin typeface="Trebuchet MS"/>
              </a:rPr>
              <a:t>Pretenciozn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PSIHOLOŠKI TIPOVI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5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4968360" y="3110040"/>
            <a:ext cx="4953240" cy="47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“</a:t>
            </a: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Plašljivo”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r>
              <a:rPr b="1" lang="sr-Latn-CS" sz="4000" spc="-1" strike="noStrike">
                <a:solidFill>
                  <a:srgbClr val="f45e44"/>
                </a:solidFill>
                <a:latin typeface="Trebuchet MS"/>
              </a:rPr>
              <a:t>Jogunasto d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tabLst>
                <a:tab algn="l" pos="0"/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2500"/>
              </a:spcBef>
              <a:buClr>
                <a:srgbClr val="f9a12a"/>
              </a:buClr>
              <a:buFont typeface="Arial"/>
              <a:buChar char="•"/>
              <a:tabLst>
                <a:tab algn="l" pos="950760"/>
                <a:tab algn="l" pos="1901880"/>
                <a:tab algn="l" pos="2852640"/>
                <a:tab algn="l" pos="3803760"/>
                <a:tab algn="l" pos="4754520"/>
                <a:tab algn="l" pos="5705640"/>
                <a:tab algn="l" pos="6656400"/>
                <a:tab algn="l" pos="7607160"/>
                <a:tab algn="l" pos="8558280"/>
                <a:tab algn="l" pos="9509040"/>
                <a:tab algn="l" pos="1046016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Rectangle 3"/>
          <p:cNvSpPr/>
          <p:nvPr/>
        </p:nvSpPr>
        <p:spPr>
          <a:xfrm>
            <a:off x="911160" y="474840"/>
            <a:ext cx="102870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8800" rIns="118800" tIns="59400" bIns="594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5840"/>
                <a:tab algn="l" pos="2371680"/>
                <a:tab algn="l" pos="3557520"/>
                <a:tab algn="l" pos="4743360"/>
                <a:tab algn="l" pos="5929200"/>
                <a:tab algn="l" pos="7115040"/>
                <a:tab algn="l" pos="8300880"/>
                <a:tab algn="l" pos="9487080"/>
                <a:tab algn="l" pos="10672920"/>
              </a:tabLst>
            </a:pPr>
            <a:r>
              <a:rPr b="1" lang="sr-Latn-CS" sz="4300" spc="-1" strike="noStrike">
                <a:solidFill>
                  <a:srgbClr val="f8f8f8"/>
                </a:solidFill>
                <a:latin typeface="Trebuchet MS"/>
              </a:rPr>
              <a:t>PSIHOLOŠKI TIPOVI DECE</a:t>
            </a:r>
            <a:endParaRPr b="0" lang="en-US" sz="43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11406240" y="519120"/>
            <a:ext cx="272880" cy="103824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0-21T11:47:34Z</dcterms:created>
  <dc:creator>Rale</dc:creator>
  <dc:description/>
  <dc:language>en-US</dc:language>
  <cp:lastModifiedBy>kompjuterash</cp:lastModifiedBy>
  <dcterms:modified xsi:type="dcterms:W3CDTF">2023-02-17T17:09:39Z</dcterms:modified>
  <cp:revision>412</cp:revision>
  <dc:subject/>
  <dc:title>RTG U DEČJOJ STOMATOLOGIJI</dc:title>
</cp:coreProperties>
</file>